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20A1-C3CF-4F10-A8E2-DFD19AD4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D3EF-6FED-47C4-B0F8-9DB3607D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ED1D-9903-4BEB-974B-BF13DC37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5EC2-2DDD-48CA-A93F-D36B7D49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DBF3-5A5B-48CF-9449-345F5ED2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7795-420C-4F32-B84C-A3465BB3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7CD6-5169-4E28-8F16-E0D5022D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68C5-7972-4B42-9A40-42ECC37F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CB44-DC2D-49F5-A934-8EE0B9D9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5A97-A5D2-427A-A799-4F705FD2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1F7A-6467-4420-ACDB-8510F363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731F-5B17-4B08-BE43-5405CF98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0F3C-51C2-4697-AD23-F20ECAF4F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IGMORE                                CRAIGMORE                               CRAIGMORE                                DUNOON  ARGYLL                        DUNOON  ARGYLL                           DUNOON  ARGYLL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RT  MATILDA                             GOUROCK                                        GOUROCK                                           GOUROCK                                GOUROCK  100TH                         GOUROCK  PARK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6483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UROCK  PARK                        GOUROCK  PARK                     GOUROCK  PARK  50TH                     GOUROCK  PARK  75TH             GREENOCK  VICTORIA                    GREENOCK  VICTORI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3244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OSVENOR                                 GROSVENOR                                  GROSVENOR                                       GROSVENOR                          GROSVENOR  150TH                                    HILLEND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13240" y="333360"/>
            <a:ext cx="111600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97600" y="33336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193240" y="333360"/>
            <a:ext cx="100620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608880" y="404640"/>
            <a:ext cx="969840" cy="924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31800" y="2060640"/>
            <a:ext cx="1060560" cy="97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2073240" y="1844640"/>
            <a:ext cx="987480" cy="1193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3584520" y="1773360"/>
            <a:ext cx="987480" cy="1252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5168880" y="1773360"/>
            <a:ext cx="987480" cy="1266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6608880" y="1557360"/>
            <a:ext cx="1133280" cy="1522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8121600" y="2205000"/>
            <a:ext cx="1001880" cy="858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631800" y="3500280"/>
            <a:ext cx="1023840" cy="1133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5168880" y="3500280"/>
            <a:ext cx="1060560" cy="1157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6537240" y="3284640"/>
            <a:ext cx="1262160" cy="1376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8121600" y="3357720"/>
            <a:ext cx="1206720" cy="1325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31800" y="5445000"/>
            <a:ext cx="1023840" cy="887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2073240" y="5013360"/>
            <a:ext cx="1096920" cy="1352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3584520" y="5084640"/>
            <a:ext cx="1006560" cy="1266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8265960" y="530064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5168880" y="5084640"/>
            <a:ext cx="1060560" cy="1279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2000160" y="3500280"/>
            <a:ext cx="1096920" cy="1157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2144880" y="33336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6608880" y="5013360"/>
            <a:ext cx="1177920" cy="1332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704880" y="404640"/>
            <a:ext cx="1023840" cy="924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3513240" y="3284640"/>
            <a:ext cx="123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1:24:07Z</dcterms:created>
  <dc:creator>JOHN YOUNG</dc:creator>
  <dc:description/>
  <dc:language>en-US</dc:language>
  <cp:lastModifiedBy>JY</cp:lastModifiedBy>
  <cp:lastPrinted>2000-05-09T17:32:06Z</cp:lastPrinted>
  <dcterms:modified xsi:type="dcterms:W3CDTF">2007-10-19T13:49:31Z</dcterms:modified>
  <cp:revision>35</cp:revision>
  <dc:subject/>
  <dc:title>No Slide Title</dc:title>
</cp:coreProperties>
</file>